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marL="99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99360" indent="-9936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99360" indent="-9936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99360" indent="-9936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140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561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2314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1" marL="48240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2" marL="771840" indent="-2311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3" marL="106164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4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5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6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498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52056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833040" indent="-249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14552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2314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8240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771840" indent="-2311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6164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2314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8240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771840" indent="-2311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6164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355320" y="253800"/>
            <a:ext cx="12293640" cy="923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1" marL="635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2" marL="1015920" indent="-304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3" marL="139716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4" marL="1778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5" marL="1778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6" marL="1778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69720" y="2044440"/>
            <a:ext cx="10464840" cy="285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95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092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25000"/>
          </a:bodyPr>
          <a:p>
            <a:pPr marL="85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Click to edit the outline text format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1" marL="85680" indent="-85680" algn="ctr">
              <a:buClr>
                <a:srgbClr val="bfbfbf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con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2" marL="85680" indent="-85680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Thir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3" marL="85680" indent="-85680" algn="ctr">
              <a:buClr>
                <a:srgbClr val="bfbfbf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our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4" marL="85680" indent="-8568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if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5" marL="85680" indent="-8568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ix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6" marL="85680" indent="-8568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ven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320" y="6832080"/>
            <a:ext cx="12293640" cy="125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92520" indent="-9252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92520" indent="-9252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92520" indent="-9252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92520" indent="-9252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92520" indent="-9252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92520" indent="-9252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75000"/>
          </a:bodyPr>
          <a:p>
            <a:pPr marL="2570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Click to edit the outline text format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1" marL="257040" indent="-257040" algn="ctr">
              <a:buClr>
                <a:srgbClr val="bfbfbf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con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2" marL="257040" indent="-257040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Thir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3" marL="257040" indent="-257040" algn="ctr">
              <a:buClr>
                <a:srgbClr val="bfbfbf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our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4" marL="257040" indent="-25704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if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5" marL="257040" indent="-25704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ix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6" marL="257040" indent="-25704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ven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269720" y="6629040"/>
            <a:ext cx="10464840" cy="2120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8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2498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52056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833040" indent="-249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14552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5320" y="1383840"/>
            <a:ext cx="589284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140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355320" y="4876920"/>
            <a:ext cx="5892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marL="99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1" marL="99360" indent="-99360" algn="ctr">
              <a:buClr>
                <a:srgbClr val="404140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2" marL="99360" indent="-99360" algn="ctr">
              <a:buClr>
                <a:srgbClr val="404140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3" marL="99360" indent="-99360" algn="ctr">
              <a:buClr>
                <a:srgbClr val="404140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4" marL="99360" indent="-99360" algn="ctr">
              <a:buClr>
                <a:srgbClr val="404140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5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6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5320" y="1383840"/>
            <a:ext cx="589284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355320" y="4876920"/>
            <a:ext cx="5892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marL="99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99360" indent="-9936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99360" indent="-9936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99360" indent="-9936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5320" y="3225960"/>
            <a:ext cx="122936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5320" y="6832080"/>
            <a:ext cx="12293640" cy="125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92520" indent="-9252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92520" indent="-9252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92520" indent="-9252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92520" indent="-9252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92520" indent="-9252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92520" indent="-9252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Web 2.0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ools – Advanced Upload &amp; Forum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1" descr=""/>
          <p:cNvPicPr/>
          <p:nvPr/>
        </p:nvPicPr>
        <p:blipFill>
          <a:blip r:embed="rId1"/>
          <a:stretch/>
        </p:blipFill>
        <p:spPr>
          <a:xfrm>
            <a:off x="7077240" y="1438200"/>
            <a:ext cx="5022720" cy="630396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35040" y="1257480"/>
            <a:ext cx="69213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140"/>
                </a:solidFill>
                <a:latin typeface="Gill Sans Light"/>
              </a:rPr>
              <a:t>Communication</a:t>
            </a: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55320" y="4876920"/>
            <a:ext cx="5892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Ability to reply to not only the discussion question but another students response.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timulate real discussion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1" descr=""/>
          <p:cNvPicPr/>
          <p:nvPr/>
        </p:nvPicPr>
        <p:blipFill>
          <a:blip r:embed="rId1"/>
          <a:stretch/>
        </p:blipFill>
        <p:spPr>
          <a:xfrm>
            <a:off x="1542960" y="549360"/>
            <a:ext cx="10052280" cy="4333680"/>
          </a:xfrm>
          <a:prstGeom prst="rect">
            <a:avLst/>
          </a:prstGeom>
          <a:ln w="0">
            <a:noFill/>
          </a:ln>
        </p:spPr>
      </p:pic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383840" y="4622760"/>
            <a:ext cx="10464840" cy="21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14141"/>
                </a:solidFill>
                <a:latin typeface="Gill Sans Light"/>
              </a:rPr>
              <a:t>Casual/General Discussion</a:t>
            </a:r>
            <a:endParaRPr b="0" lang="en-US" sz="64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Major Benefits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rums can be used at school or home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an be a means to encourage discussion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Introducing or summarising a topic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Group collaboration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Web 2.0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Moodle - Advanced Upload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1" descr=""/>
          <p:cNvPicPr/>
          <p:nvPr/>
        </p:nvPicPr>
        <p:blipFill>
          <a:blip r:embed="rId1"/>
          <a:stretch/>
        </p:blipFill>
        <p:spPr>
          <a:xfrm>
            <a:off x="2846520" y="1238400"/>
            <a:ext cx="7304040" cy="441936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55320" y="6832080"/>
            <a:ext cx="12293640" cy="125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Advanced uploading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Allow students to upload drafts of assignment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1" descr=""/>
          <p:cNvPicPr/>
          <p:nvPr/>
        </p:nvPicPr>
        <p:blipFill>
          <a:blip r:embed="rId1"/>
          <a:stretch/>
        </p:blipFill>
        <p:spPr>
          <a:xfrm>
            <a:off x="1109520" y="268200"/>
            <a:ext cx="10784160" cy="638820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55320" y="6832080"/>
            <a:ext cx="12293640" cy="125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Upload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tudents upload files to Moodle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"/>
          <p:cNvPicPr/>
          <p:nvPr/>
        </p:nvPicPr>
        <p:blipFill>
          <a:blip r:embed="rId1"/>
          <a:stretch/>
        </p:blipFill>
        <p:spPr>
          <a:xfrm>
            <a:off x="1109520" y="268200"/>
            <a:ext cx="10784160" cy="6388200"/>
          </a:xfrm>
          <a:prstGeom prst="rect">
            <a:avLst/>
          </a:prstGeom>
          <a:ln w="0">
            <a:noFill/>
          </a:ln>
        </p:spPr>
      </p:pic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55320" y="6832080"/>
            <a:ext cx="12293640" cy="125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Feedback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eachers can provide feedback to students.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Major Benefits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tudents can receive prompt feedback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eachers can monitor student progress by providing milestone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tudents can use the advanced upload slot as a USB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9-4 teacher has now become a 24/7 teacher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Web 2.0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RUM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1" descr=""/>
          <p:cNvPicPr/>
          <p:nvPr/>
        </p:nvPicPr>
        <p:blipFill>
          <a:blip r:embed="rId1"/>
          <a:stretch/>
        </p:blipFill>
        <p:spPr>
          <a:xfrm>
            <a:off x="2554200" y="695160"/>
            <a:ext cx="8047080" cy="5991480"/>
          </a:xfrm>
          <a:prstGeom prst="rect">
            <a:avLst/>
          </a:prstGeom>
          <a:ln w="0">
            <a:noFill/>
          </a:ln>
        </p:spPr>
      </p:pic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Discussion topics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1" descr=""/>
          <p:cNvPicPr/>
          <p:nvPr/>
        </p:nvPicPr>
        <p:blipFill>
          <a:blip r:embed="rId1"/>
          <a:stretch/>
        </p:blipFill>
        <p:spPr>
          <a:xfrm>
            <a:off x="2639880" y="755640"/>
            <a:ext cx="7875720" cy="594360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14141"/>
                </a:solidFill>
                <a:latin typeface="Gill Sans Light"/>
              </a:rPr>
              <a:t>Students see responses and build upon answers</a:t>
            </a:r>
            <a:endParaRPr b="0" lang="en-US" sz="64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H O</cp:lastModifiedBy>
  <dcterms:modified xsi:type="dcterms:W3CDTF">2012-03-18T12:07:49Z</dcterms:modified>
  <cp:revision>1</cp:revision>
  <dc:subject/>
  <dc:title>Web 2.0</dc:title>
</cp:coreProperties>
</file>